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7FA-252D-437E-B98B-450E0B5F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19F-23D3-4996-927F-3EA91B21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7F2-3EB8-4CD9-8990-5240CF70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980-845D-4BD5-B9E0-5182BE39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A681-6AAF-418A-A654-1CAE8C27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A41-453E-405A-943E-C3593A2B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E9B2-2926-41E5-BD8D-7971E87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BA85-7611-47CB-A6ED-F723DFE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A6E-F4BB-483B-B0FE-AC20DCD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0720" y="7596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F83-6E02-4730-BD97-C01B1DD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0F3-5DA1-4D86-A5BF-46468D4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D63-659D-4A8C-B84E-926E61B6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B980-6D33-46F3-8DEB-D0FDE91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952-0827-4EF8-957B-EB7D638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2988-1CDA-4081-95D4-00C250B5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AFD-ED20-47A1-8047-19D27FDE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C7FD-2E04-47B7-8BB8-C4B09239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875-47C9-4FDB-99A5-CFBBAC99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272-8A02-4A3E-874B-79F947A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999-71AB-4A7F-934E-18D72C70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7596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B08-613D-4A2D-BD3C-503E61A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CC4-EEF8-4039-B6C8-D92DEE6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91A-40D0-47FB-B10A-68750E2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574-3227-4550-9A8C-48F0794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224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224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5446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5446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4716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44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8049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FBA-72B9-4FF9-81F3-94650D76C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4400"/>
            <a:ext cx="9009000" cy="1052280"/>
            <a:chOff x="0" y="1440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22040"/>
              <a:ext cx="711360" cy="474480"/>
              <a:chOff x="290520" y="12204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2204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2204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544320"/>
              <a:ext cx="737640" cy="474480"/>
              <a:chOff x="414360" y="54432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54432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54432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4712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44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8355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E57-C8EC-4D92-B33E-B4B6AE50D8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emoz1Est" descr=""/>
          <p:cNvPicPr/>
          <p:nvPr/>
        </p:nvPicPr>
        <p:blipFill>
          <a:blip r:embed="rId1"/>
          <a:stretch/>
        </p:blipFill>
        <p:spPr>
          <a:xfrm>
            <a:off x="4419720" y="1812960"/>
            <a:ext cx="4492440" cy="3597120"/>
          </a:xfrm>
          <a:prstGeom prst="rect">
            <a:avLst/>
          </a:prstGeom>
          <a:ln w="0">
            <a:noFill/>
          </a:ln>
        </p:spPr>
      </p:pic>
      <p:pic>
        <p:nvPicPr>
          <p:cNvPr id="99" name="demoz1Est" descr=""/>
          <p:cNvPicPr/>
          <p:nvPr/>
        </p:nvPicPr>
        <p:blipFill>
          <a:blip r:embed="rId2"/>
          <a:stretch/>
        </p:blipFill>
        <p:spPr>
          <a:xfrm>
            <a:off x="0" y="1965240"/>
            <a:ext cx="4797360" cy="3597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65840" y="763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Phase Unwr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98108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182880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488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546732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284480" y="16002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terfe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35440" y="16002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Z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demoz1Est" descr=""/>
          <p:cNvPicPr/>
          <p:nvPr/>
        </p:nvPicPr>
        <p:blipFill>
          <a:blip r:embed="rId1"/>
          <a:stretch/>
        </p:blipFill>
        <p:spPr>
          <a:xfrm>
            <a:off x="0" y="2209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08" name="demoz1Est" descr=""/>
          <p:cNvPicPr/>
          <p:nvPr/>
        </p:nvPicPr>
        <p:blipFill>
          <a:blip r:embed="rId2"/>
          <a:stretch/>
        </p:blipFill>
        <p:spPr>
          <a:xfrm>
            <a:off x="4038480" y="2117880"/>
            <a:ext cx="4797720" cy="359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65840" y="763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Phase Unwr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4480" y="1676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terfe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3840" y="121932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Z-step with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iscontinu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209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1337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50880" y="5619600"/>
                <a:ext cx="1011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demoz1Est" descr=""/>
          <p:cNvPicPr/>
          <p:nvPr/>
        </p:nvPicPr>
        <p:blipFill>
          <a:blip r:embed="rId1"/>
          <a:stretch/>
        </p:blipFill>
        <p:spPr>
          <a:xfrm>
            <a:off x="4346640" y="53352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16" name="demoz1Est" descr=""/>
          <p:cNvPicPr/>
          <p:nvPr/>
        </p:nvPicPr>
        <p:blipFill>
          <a:blip r:embed="rId2"/>
          <a:stretch/>
        </p:blipFill>
        <p:spPr>
          <a:xfrm>
            <a:off x="0" y="348948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17" name="demoz1Est" descr=""/>
          <p:cNvPicPr/>
          <p:nvPr/>
        </p:nvPicPr>
        <p:blipFill>
          <a:blip r:embed="rId3"/>
          <a:stretch/>
        </p:blipFill>
        <p:spPr>
          <a:xfrm>
            <a:off x="4422600" y="3565440"/>
            <a:ext cx="4797720" cy="3597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0400" y="11430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Unknown d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0520" y="763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Phase Unwr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505320"/>
            <a:ext cx="2286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0948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3886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Known d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0800" y="29718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terfe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4290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demoz1Est" descr=""/>
          <p:cNvPicPr/>
          <p:nvPr/>
        </p:nvPicPr>
        <p:blipFill>
          <a:blip r:embed="rId1"/>
          <a:stretch/>
        </p:blipFill>
        <p:spPr>
          <a:xfrm>
            <a:off x="0" y="341316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26" name="demoz1Est" descr=""/>
          <p:cNvPicPr/>
          <p:nvPr/>
        </p:nvPicPr>
        <p:blipFill>
          <a:blip r:embed="rId2"/>
          <a:stretch/>
        </p:blipFill>
        <p:spPr>
          <a:xfrm>
            <a:off x="4346640" y="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27" name="demoz1Est" descr=""/>
          <p:cNvPicPr/>
          <p:nvPr/>
        </p:nvPicPr>
        <p:blipFill>
          <a:blip r:embed="rId3"/>
          <a:stretch/>
        </p:blipFill>
        <p:spPr>
          <a:xfrm>
            <a:off x="4346640" y="341316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70520" y="763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Phase Unwr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35268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5360" y="30481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Quality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emoz1Est" descr=""/>
          <p:cNvPicPr/>
          <p:nvPr/>
        </p:nvPicPr>
        <p:blipFill>
          <a:blip r:embed="rId1"/>
          <a:stretch/>
        </p:blipFill>
        <p:spPr>
          <a:xfrm>
            <a:off x="0" y="3546360"/>
            <a:ext cx="4721400" cy="3540240"/>
          </a:xfrm>
          <a:prstGeom prst="rect">
            <a:avLst/>
          </a:prstGeom>
          <a:ln w="0">
            <a:noFill/>
          </a:ln>
        </p:spPr>
      </p:pic>
      <p:pic>
        <p:nvPicPr>
          <p:cNvPr id="132" name="demoz1Est" descr=""/>
          <p:cNvPicPr/>
          <p:nvPr/>
        </p:nvPicPr>
        <p:blipFill>
          <a:blip r:embed="rId2"/>
          <a:stretch/>
        </p:blipFill>
        <p:spPr>
          <a:xfrm>
            <a:off x="4346640" y="7632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33" name="demoz1Est" descr=""/>
          <p:cNvPicPr/>
          <p:nvPr/>
        </p:nvPicPr>
        <p:blipFill>
          <a:blip r:embed="rId3"/>
          <a:stretch/>
        </p:blipFill>
        <p:spPr>
          <a:xfrm>
            <a:off x="4346640" y="348948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37240" y="763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Phase Unwr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27760" y="30481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Quality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505320"/>
            <a:ext cx="2286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emoz1Est" descr=""/>
          <p:cNvPicPr/>
          <p:nvPr/>
        </p:nvPicPr>
        <p:blipFill>
          <a:blip r:embed="rId1"/>
          <a:stretch/>
        </p:blipFill>
        <p:spPr>
          <a:xfrm>
            <a:off x="3240" y="166068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38" name="demoz1Est" descr=""/>
          <p:cNvPicPr/>
          <p:nvPr/>
        </p:nvPicPr>
        <p:blipFill>
          <a:blip r:embed="rId2"/>
          <a:stretch/>
        </p:blipFill>
        <p:spPr>
          <a:xfrm>
            <a:off x="4118040" y="166068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23600" y="7632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Absolute Phase Esti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52880" y="137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terfe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440" y="1371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 – (4 it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47920" y="546732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demoz1Est" descr=""/>
          <p:cNvPicPr/>
          <p:nvPr/>
        </p:nvPicPr>
        <p:blipFill>
          <a:blip r:embed="rId1"/>
          <a:stretch/>
        </p:blipFill>
        <p:spPr>
          <a:xfrm>
            <a:off x="0" y="1508040"/>
            <a:ext cx="4797360" cy="3597480"/>
          </a:xfrm>
          <a:prstGeom prst="rect">
            <a:avLst/>
          </a:prstGeom>
          <a:ln w="0">
            <a:noFill/>
          </a:ln>
        </p:spPr>
      </p:pic>
      <p:pic>
        <p:nvPicPr>
          <p:cNvPr id="146" name="demoz1Est" descr=""/>
          <p:cNvPicPr/>
          <p:nvPr/>
        </p:nvPicPr>
        <p:blipFill>
          <a:blip r:embed="rId2"/>
          <a:stretch/>
        </p:blipFill>
        <p:spPr>
          <a:xfrm>
            <a:off x="4346640" y="1523880"/>
            <a:ext cx="4797360" cy="359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23600" y="7632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Absolute Phase Esti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447920"/>
            <a:ext cx="2286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52880" y="12193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terfe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52388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7200" y="121932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 – (4 it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47920" y="546732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demoz1Est" descr=""/>
          <p:cNvPicPr/>
          <p:nvPr/>
        </p:nvPicPr>
        <p:blipFill>
          <a:blip r:embed="rId1"/>
          <a:stretch/>
        </p:blipFill>
        <p:spPr>
          <a:xfrm>
            <a:off x="0" y="91440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154" name="demoz1Est" descr=""/>
          <p:cNvPicPr/>
          <p:nvPr/>
        </p:nvPicPr>
        <p:blipFill>
          <a:blip r:embed="rId2"/>
          <a:stretch/>
        </p:blipFill>
        <p:spPr>
          <a:xfrm>
            <a:off x="4419720" y="860400"/>
            <a:ext cx="4645080" cy="3483000"/>
          </a:xfrm>
          <a:prstGeom prst="rect">
            <a:avLst/>
          </a:prstGeom>
          <a:ln w="0">
            <a:noFill/>
          </a:ln>
        </p:spPr>
      </p:pic>
      <p:pic>
        <p:nvPicPr>
          <p:cNvPr id="155" name="demoz1Est" descr=""/>
          <p:cNvPicPr/>
          <p:nvPr/>
        </p:nvPicPr>
        <p:blipFill>
          <a:blip r:embed="rId3"/>
          <a:stretch/>
        </p:blipFill>
        <p:spPr>
          <a:xfrm>
            <a:off x="3240" y="403848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156" name="demoz1Est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5880" y="619776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moz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23600" y="7632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Absolute Phase Esti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demoz1Est" descr=""/>
          <p:cNvPicPr/>
          <p:nvPr/>
        </p:nvPicPr>
        <p:blipFill>
          <a:blip r:embed="rId1"/>
          <a:stretch/>
        </p:blipFill>
        <p:spPr>
          <a:xfrm>
            <a:off x="0" y="137160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09960" y="182520"/>
            <a:ext cx="78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Demo-z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(Absolute Phase Estimation – 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fig" descr=""/>
          <p:cNvPicPr/>
          <p:nvPr/>
        </p:nvPicPr>
        <p:blipFill>
          <a:blip r:embed="rId2"/>
          <a:stretch/>
        </p:blipFill>
        <p:spPr>
          <a:xfrm>
            <a:off x="4346640" y="1219320"/>
            <a:ext cx="47973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7:46:44Z</dcterms:created>
  <dc:creator>Jose Bioucas Dias</dc:creator>
  <dc:description/>
  <dc:language>en-US</dc:language>
  <cp:lastModifiedBy>Jose Bioucas Dias</cp:lastModifiedBy>
  <dcterms:modified xsi:type="dcterms:W3CDTF">2003-07-02T14:06:23Z</dcterms:modified>
  <cp:revision>18</cp:revision>
  <dc:subject/>
  <dc:title>PowerPoint Presentation</dc:title>
</cp:coreProperties>
</file>